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6FA-CEB1-420D-A197-9B6A6B3C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C77-316F-4EFD-9464-5D2AB42D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A6C-5916-49A3-A3C8-6A707FF7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52C-448A-47D0-BB04-1643638D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149-67F6-4074-A196-B6F4CE9E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274-7C84-4AF6-AB50-86C83369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F4D-4C04-4C13-8F9C-21A8FAB7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B24-1539-49DA-B206-8E0E04BB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70F-E4FA-44DA-861A-188980CE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251-40E3-482E-9711-FA9B6016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843-D5C4-440E-8183-DB4B405E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940-7642-493F-B85E-2E9E8353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E534-E8E0-48FB-B96B-A6AE754EB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a50021"/>
                </a:solidFill>
                <a:latin typeface="Verdana"/>
              </a:rPr>
              <a:t>Francophones</a:t>
            </a:r>
            <a:r>
              <a:rPr b="0" lang="es-E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5400" spc="-1" strike="noStrike">
                <a:solidFill>
                  <a:srgbClr val="990033"/>
                </a:solidFill>
                <a:latin typeface="Verdana"/>
              </a:rPr>
              <a:t>célèb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0100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Qui est-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5892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Céline D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s’appelle Céline D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née à Charlemagne, au Québec (Canad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chant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chante en anglais et en franç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38228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u connais ce dessinateur?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Z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s’appelle Philippe Chapp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n pseudonyme est Z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est né à Genève, en  Su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’est le créateur de Tite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l est mort… Tu le conna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0892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Gustave Eiff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 s’appelle Gustave 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 est ingén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 est né à Dijon, en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 a construit la Tour Eiffel pour l’Exposition Universelle de 188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our Eiffel est le monument le plus visité au mo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429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i est-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43280" y="1600200"/>
            <a:ext cx="3529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Éric Abid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456000" cy="4454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s’appelle Éric Abid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est joueur de football dans le F.C. Barce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n poste est latéral-gau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est né en France, mais il est d’origine martiniqua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’est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528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Gérard Depard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s’appelle Gérard Depard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est ac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est franç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’est l’acteur français le mieux pay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a été “Cyran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Bergerac” et “Obél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11640" y="2133720"/>
            <a:ext cx="452124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i est-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1557360"/>
            <a:ext cx="292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Carla Br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s'appelle Carla Br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'est la femme de Nicolas Sarko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a été top model et chant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née en Italie, mais elle habite à Paris, e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292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810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Audrey Taut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s'appelle Audrey Tau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actr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a fait des films comme "Le fabuleux destin d'Amélie Poulain, "L'auberge espagnole" ou "Coco avant Chanel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 le conna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14560" y="1484280"/>
            <a:ext cx="3168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Tony Par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s'appelle Tony Park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n surnom est TP (tip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est joueur de basket professionnel franç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est né à Brugge, en Belg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n équipe est San Antonio, de la N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i est-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34844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l s’appelle Omar 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l est ac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l est né à Trappes, près de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l est d’origine sénégala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’est l’un des protagonistes du film “Intouchab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32400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4:40:24Z</dcterms:created>
  <dc:creator>nombre</dc:creator>
  <dc:description/>
  <dc:language>en-US</dc:language>
  <cp:lastModifiedBy>nombre</cp:lastModifiedBy>
  <dcterms:modified xsi:type="dcterms:W3CDTF">2012-11-13T06:09:51Z</dcterms:modified>
  <cp:revision>5</cp:revision>
  <dc:subject/>
  <dc:title>Qui est-ce?</dc:title>
</cp:coreProperties>
</file>